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1133B-4E5F-4915-BEFD-EF658DC3C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D6F4A-5BB4-486B-8647-B9FCF760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05CEC-CED4-42AD-B084-3E1A9D7F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CE322-87AA-476E-9EC8-97DA9F3E9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3325-AA1B-45F9-BADF-36F76C70A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936A-2657-4540-88E9-60364F6D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9149-AEE4-4958-AF51-8E664BDD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DAE5-F2B1-41EE-9B5A-09514275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FA30-462D-48E3-BB3C-A33A2A9A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8A8F-6CD8-47B0-9AD1-03C29EBC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5E2E-BE2D-485A-9D2D-2C5A1072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186D0-8978-4041-908E-B0FB902E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4A12-6A0F-47EE-BC07-17D9162B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8663-3986-4406-B4BD-975B49A6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7377-39C3-4787-BB05-BFE43F4B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D67D-E4FA-4267-A54A-856EB29EC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98F6-624E-4EA1-885B-3CA435146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34B6D-2EA9-4802-863F-4A176F6B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BD0FB-92A0-420F-8BDB-20EC6B1B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E9523-BE75-4E14-BAD8-5BA5A900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E6B9C-C3FC-4965-BED1-11090585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ED604-93FC-4044-8A03-3AA493C7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6CFDD-5E41-43C3-B4FF-8304B6BC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3B61E-8847-4331-97BB-48BE251A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2A07-6FAF-4CA5-B060-E734AABD8F24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4FDA-2551-4318-8312-4748D1D9121C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226440"/>
            <a:ext cx="9577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749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Със сърца съединен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ърсим в Господа покой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 любовта Си Той огря н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се во все за нас е Той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ой глава е, ние - тяло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ой е слънце, ние - звезди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ой Учител, ние пък братя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ой е наш, ние - Негов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529920"/>
            <a:ext cx="100821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 Божии чада, дойдет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одновете свят завет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ий пред Него положет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аший на любов обет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когато любовта в вас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готви се да охладней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икайте към милий си Спас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ой от Свойта да ви вле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53136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Нека, братя, да се любим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акто Той възлюби нас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живот ние да изгубим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зарад брата, както Спа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азал си, о, Боже всеблаг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 раздаваме любов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ека всяка сестра и бра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уй да прави е готов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53136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4. Дай да сме съединен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акто Ти Си със Отц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 любовта Си Ти огря н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грей и до концов конц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ека всеки брат да зна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брату си да бъде страж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светът ще да позна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че сме Твои и Ти - наш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5-01T15:34:45Z</dcterms:modified>
  <cp:revision>161</cp:revision>
  <dc:subject/>
  <dc:title>Slide 1</dc:title>
</cp:coreProperties>
</file>